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777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283FAC-DCAD-4931-99BD-4F3D0A2D38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739152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0" y="3895920"/>
            <a:ext cx="739152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738A98-DE22-489B-BE63-406101ADC7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78756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0" y="389592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787560" y="389592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F5BB89-6666-4037-A036-DD140B9A21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499480" y="99036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998600" y="99036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0" y="389592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499480" y="389592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4998600" y="389592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B5C68E-DEFF-461B-951F-2EBECDDDC4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0" y="990360"/>
            <a:ext cx="7391520" cy="55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739152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60684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87560" y="990360"/>
            <a:ext cx="360684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739152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787560" y="990360"/>
            <a:ext cx="360684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0" y="389592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0" y="990360"/>
            <a:ext cx="7391520" cy="55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36DACB-BBA0-4B06-BFC1-16A0FFDEB2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60684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78756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787560" y="389592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78756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0" y="3895920"/>
            <a:ext cx="739152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739152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0" y="3895920"/>
            <a:ext cx="739152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78756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0" y="389592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787560" y="389592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499480" y="99036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998600" y="99036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0" y="389592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499480" y="389592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4998600" y="389592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739152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593B61-2148-41DE-B577-0F4EE989F3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60684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787560" y="990360"/>
            <a:ext cx="360684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A3F975-F744-4066-B476-C290304037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23059A-D6B1-4055-8975-E7E61B9FC6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739152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0A0547-30DB-4B5F-ADB8-22574B5442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787560" y="990360"/>
            <a:ext cx="360684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0" y="389592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70C486-4845-4DA9-80C8-D4E0DBA8E5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60684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78756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787560" y="389592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7AD2F5-60C0-459B-82A4-D68A55F9AD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78756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0" y="3895920"/>
            <a:ext cx="739152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41D2D1-AC65-4D0B-87B2-34D50E5C92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logo" descr=""/>
          <p:cNvPicPr/>
          <p:nvPr/>
        </p:nvPicPr>
        <p:blipFill>
          <a:blip r:embed="rId3"/>
          <a:stretch/>
        </p:blipFill>
        <p:spPr>
          <a:xfrm>
            <a:off x="7391520" y="0"/>
            <a:ext cx="1752480" cy="99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0" y="990360"/>
            <a:ext cx="739152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marL="285840" indent="-285840">
              <a:spcBef>
                <a:spcPts val="499"/>
              </a:spcBef>
              <a:buClr>
                <a:srgbClr val="336699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9360" indent="-262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97000" indent="-239760">
              <a:spcBef>
                <a:spcPts val="499"/>
              </a:spcBef>
              <a:buClr>
                <a:srgbClr val="002b5d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76520" indent="-239760">
              <a:spcBef>
                <a:spcPts val="499"/>
              </a:spcBef>
              <a:buClr>
                <a:srgbClr val="002b5d"/>
              </a:buClr>
              <a:buFont typeface="Arial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55680" indent="-239400">
              <a:spcBef>
                <a:spcPts val="499"/>
              </a:spcBef>
              <a:buClr>
                <a:srgbClr val="002b5d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155680" indent="-2394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155680" indent="-2394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2828880" y="2693880"/>
            <a:ext cx="41400" cy="3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1143000"/>
            <a:ext cx="7754760" cy="10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96840" y="1996920"/>
            <a:ext cx="8994600" cy="43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713040" y="3038400"/>
            <a:ext cx="148932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3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abab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1"/>
          </p:nvPr>
        </p:nvSpPr>
        <p:spPr>
          <a:xfrm>
            <a:off x="0" y="6552720"/>
            <a:ext cx="7391520" cy="3049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2"/>
          </p:nvPr>
        </p:nvSpPr>
        <p:spPr>
          <a:xfrm>
            <a:off x="4266720" y="6552720"/>
            <a:ext cx="838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36000" bIns="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Page </a:t>
            </a:r>
            <a:fld id="{CFED0D0E-4BB2-4E8E-93E3-60CAAC1998F4}" type="slidenum">
              <a:rPr b="0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14040" y="2819520"/>
            <a:ext cx="563868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3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logo" descr=""/>
          <p:cNvPicPr/>
          <p:nvPr/>
        </p:nvPicPr>
        <p:blipFill>
          <a:blip r:embed="rId3"/>
          <a:stretch/>
        </p:blipFill>
        <p:spPr>
          <a:xfrm>
            <a:off x="5657760" y="1146240"/>
            <a:ext cx="3200400" cy="990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5994360" y="1143000"/>
            <a:ext cx="2819520" cy="502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cc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124080" y="1143000"/>
            <a:ext cx="2819520" cy="502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cc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54160" y="1143000"/>
            <a:ext cx="2819160" cy="502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cc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4920" y="0"/>
            <a:ext cx="73911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08000" tIns="3600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Progress NE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216000" y="1346040"/>
          <a:ext cx="8458200" cy="70614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6000" y="1346040"/>
                    <a:ext cx="8458200" cy="706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06T10:16:27Z</dcterms:created>
  <dc:creator>MDamms</dc:creator>
  <dc:description/>
  <dc:language>en-US</dc:language>
  <cp:lastModifiedBy>Jürgen Schmitz</cp:lastModifiedBy>
  <cp:lastPrinted>2003-07-02T13:24:00Z</cp:lastPrinted>
  <dcterms:modified xsi:type="dcterms:W3CDTF">2003-10-07T09:47:54Z</dcterms:modified>
  <cp:revision>84</cp:revision>
  <dc:subject/>
  <dc:title>No Slide Title</dc:title>
</cp:coreProperties>
</file>